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1571E-7F6E-4F21-94F4-6B354E0C7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36AD5-05DC-49D2-9868-75E4C155F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31FE3-32A3-4556-B87F-80D3E31A3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614CA-4C78-4DE0-9E62-FA47766D7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DB651-E1C9-435E-9E5A-9F202C3C7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403FB-5ECD-41CE-8006-7A60E5E15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2154A-BA59-4DAC-A514-A4A48CA64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6AA5E-6AFB-4E20-A456-D1279FBBF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273FC-FC0E-40AE-A955-4F380796C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DDB9A-5758-46F9-BA9B-A6E0EF699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8E89F-F082-421B-A32B-4921F266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1FC56-012E-49FC-91C1-9F6AEEFBA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ABD65-CB0C-4CB7-8B2D-2249C0E3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AB1FF-8E16-4B38-A73B-737C06C5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2EAB6-6CBE-425E-A720-912F450F4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E091A-0E35-47BD-B055-5D63D7915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3CFD0-90FE-4BAD-9B34-FDAC198CB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F7A6D-8B5E-4D61-B326-6CE78A6A2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3C215-A489-43E9-836C-DA8905FA3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4AEE0-68ED-4B1C-AC01-EFDC89DB0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C433C-C023-4C6E-97EB-1E9E6A120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A6E99-4A34-44A0-B61C-7C242D3D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6063E-6A05-4B42-9226-A37A3F52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DD83B-C3B0-4398-9087-7A807A97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84E52-1A9E-44C1-854A-853AC40B7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d0d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d0d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73F3A-E530-40A7-867C-0432EC45C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aramond"/>
              </a:rPr>
              <a:t>Gesund Leben!</a:t>
            </a:r>
            <a:endParaRPr b="0" lang="en-US" sz="5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By- Linsey Hueg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our 5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Kapitel 4 Projekt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943600" cy="39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Garamond"/>
              </a:rPr>
              <a:t>Ich rauche nictht, es ist nicht gut für meine Gesundheit.</a:t>
            </a:r>
            <a:endParaRPr b="1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3" name="il_fi" descr=""/>
          <p:cNvPicPr/>
          <p:nvPr/>
        </p:nvPicPr>
        <p:blipFill>
          <a:blip r:embed="rId1"/>
          <a:stretch/>
        </p:blipFill>
        <p:spPr>
          <a:xfrm>
            <a:off x="304920" y="3886200"/>
            <a:ext cx="236196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Ich esse viel Obst wie Erdbeeren und Himbeeren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85800" y="3352680"/>
            <a:ext cx="3114720" cy="20750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251460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Ich jogge jeden Tag, es hält mich fit.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352680" y="2895480"/>
            <a:ext cx="2086200" cy="333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Du sollst keinen Alkohol trinken, es ist sehr schlecht f</a:t>
            </a:r>
            <a:r>
              <a:rPr b="0" lang="en-US" sz="4000" spc="-1" strike="noStrike">
                <a:solidFill>
                  <a:srgbClr val="000000"/>
                </a:solidFill>
                <a:latin typeface="Garamond"/>
                <a:ea typeface="Arial"/>
              </a:rPr>
              <a:t>ü</a:t>
            </a: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r deine Gesundheit. 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191120" y="297180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Ich finde es toll, dass du oft schlafen!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362320" y="2895480"/>
            <a:ext cx="403848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Ich darf Pizza essen einmal in Monat.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352680" y="2895480"/>
            <a:ext cx="3048120" cy="294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Ich darf nur keine Schokolade essen, weil es hat viel zucker. 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676520" y="281952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4T17:14:22Z</dcterms:created>
  <dc:creator>CUSD220</dc:creator>
  <dc:description/>
  <dc:language>en-US</dc:language>
  <cp:lastModifiedBy>CUSD220</cp:lastModifiedBy>
  <dcterms:modified xsi:type="dcterms:W3CDTF">2012-02-24T17:35:37Z</dcterms:modified>
  <cp:revision>3</cp:revision>
  <dc:subject/>
  <dc:title>Ich rauche nictht, es ist nicht gut für meine Gesundheit.</dc:title>
</cp:coreProperties>
</file>